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wmf" ContentType="image/x-wmf"/>
  <Override PartName="/ppt/media/image1.png" ContentType="image/png"/>
  <Override PartName="/ppt/media/image4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315-F48D-47C3-889F-74CBC9F4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F96-4305-4540-8DC8-CD4FB7C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AB2-976D-4621-987B-CC344C4C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9D0-35F4-4CE3-9858-CBB0ADC6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672A-1016-4C3E-8E05-0EFEE8CF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2B54-C5BB-40DA-B2AB-122B36BE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0A74-AC6C-4B48-B522-75CA33C7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CD11-7B8E-4B8E-A953-0D720D23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327-9E74-4396-A4BD-62B5659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BC40-4A0D-492F-91E5-0BA2BED2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61EF-A489-4351-88D1-01B80E8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5E6-EC27-4BEF-B4E5-0911BC99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E1CE-A118-4AED-AC83-B54DC95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C30A-3EE2-4170-A98E-9F2C14B2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0BBB-41CD-4BF7-B15B-84832F5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2ECA-EC23-4E25-AE50-E244F62C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1A04-5148-431A-B2C9-460D54C6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FF4-47CC-40A5-A4B8-FFEEB5AA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061-2DC3-4EAD-BD63-979A55DB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630-B91D-4F40-A8C6-1BB629D2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302-8907-4A75-A6F7-5056A099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59A-F08D-4252-8ABC-D5555BD9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A87-8408-46F2-805D-50E6A470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E1C-088C-4CA7-8B50-64C4EC3D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EFCA-40F4-4738-A60C-FA462A38CD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04C0-4803-4BCE-AF99-E7AADA166C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Дипломный проект на тему: «Автоматизация системы бюджетирования финансовой службы ЗАО «Телмос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15640" y="458100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ен студент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ы 98 – Э – 5 Василишиной О.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водитель доц. Кусмарцева Н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070760" y="326376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11280" y="425520"/>
          <a:ext cx="806436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25520"/>
                    <a:ext cx="806436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68360" y="404640"/>
          <a:ext cx="8207280" cy="59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2072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6443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результате внедрения технологии бюджетирования предприятие получит эффективное средство для планирования денежных средств, выявления финансовых резервов, оценки эффективности деятельности структурных подразделений и решения многих других финансово-экономических задач. Конечная же цель данной технологии — сделать экономическое развитие предприятия управляемым, а все процессы, связанные с финансами и бюджетом, — прозрачными для руководи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868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сновные задачи систем бюджетирова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бюджета (включая согласование и утверждение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ь его исполнения (оценка соответствия плана и факта)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причин отклонений фактических данных от плановы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им образом, бюджетирование включает в себя два основных элемента - планирование и контро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5661000"/>
          <a:ext cx="914400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1000"/>
                    <a:ext cx="914400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0" y="0"/>
          <a:ext cx="9144000" cy="12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3280" y="25992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Структура производства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и управления ЗАО  «Телмос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125360"/>
          <a:ext cx="9144000" cy="532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125360"/>
                    <a:ext cx="914400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ункциональная модель процесса бюджетного управления ЗАО «Телмос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6984" r="0" b="0"/>
          <a:stretch/>
        </p:blipFill>
        <p:spPr>
          <a:xfrm>
            <a:off x="755640" y="1916280"/>
            <a:ext cx="7777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изнес – процесс бюджетного управления предприяти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7461"/>
          <a:stretch/>
        </p:blipFill>
        <p:spPr>
          <a:xfrm>
            <a:off x="395280" y="1600200"/>
            <a:ext cx="8280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ормирование бюджета предприят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6984"/>
          <a:stretch/>
        </p:blipFill>
        <p:spPr>
          <a:xfrm>
            <a:off x="468360" y="1557360"/>
            <a:ext cx="83516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ормирование бюджетов подраздел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6984" r="0" b="0"/>
          <a:stretch/>
        </p:blipFill>
        <p:spPr>
          <a:xfrm>
            <a:off x="539640" y="1758960"/>
            <a:ext cx="8280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1993" t="18012" r="2466" b="40994"/>
          <a:stretch/>
        </p:blipFill>
        <p:spPr>
          <a:xfrm>
            <a:off x="250920" y="33336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Экономическая эффектив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ффективность повышается за счет следующих фак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дится в единый баланс все множество финансовых потоков, связанных с формированием доходов и затр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репление бюджетов за подразделениями переносит значительную часть ответственности за уровень заработной платы работников с директора предприятия на руководителей этих подраздел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лизуется принцип материальной заинтересованности всего персонала в результатах работы как своего подразделения и предприятия в целом. Становится выгодным повышать доходы и снижать затраты, так как при этом будет расти зарпл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джетный процесс реализует на предприятии все функции управления финансами, а именно - планирование, организацию, мотивацию, учет, анализ и регулиров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новится возможным ориентировать финансовую политику на решение конкретных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у финансового планирования закладывается план производства продукции, материально-технического и кадрового обеспе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а бюджетирования становится основой комплексного управление всеми направлениями деятельности предприя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0:17:15Z</dcterms:created>
  <dc:creator>vasilishina</dc:creator>
  <dc:description/>
  <dc:language>en-US</dc:language>
  <cp:lastModifiedBy>vasilishina</cp:lastModifiedBy>
  <dcterms:modified xsi:type="dcterms:W3CDTF">2003-06-02T12:09:33Z</dcterms:modified>
  <cp:revision>8</cp:revision>
  <dc:subject/>
  <dc:title>Дипломный проект на тему: «Автоматизация системы бюджетирования финансовой службы ЗАО «Телмос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